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3F1E-9CCD-42CC-A290-C92126A5C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0E38-60A8-4ABA-B04B-7F5597227F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6816-7D06-4E03-A8C5-14F64988C6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309B-17B9-4C60-A920-8524504873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0582-15D5-4823-9B9D-FA623FA139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F989-81F8-4452-9F6E-7E79B7FAF4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BBCE-641C-4C6C-99FC-5FD57D4DA7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4733-F4C3-470D-BE5A-FFB2F05A5F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7705-E976-480A-99A3-9EB2CB6EE1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AD6B-D580-4D3A-B00F-DE67D2C6C2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EDC8-F4A7-4E71-B4C0-A942A1B619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90DD-50F3-4602-BD1B-0F614EFA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B133-36F1-4297-9D5B-4ABB99EC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E8E-D7A8-4E82-B9CB-A494EB50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3DC8-A662-4E26-B342-BE1D5EC0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24EF-F0B4-4FEB-8C6D-1A2DEED0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F4CD-9CB4-4CB0-91D7-51F14C89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AF19-8FCF-4124-849B-DFC6E826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F016-32AB-44A8-8B0D-A8646191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4AE7-C981-4724-AD29-31ACE4BE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6882-4ADD-484F-AE69-3929B426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28B9-C22C-46E7-8133-16BEDD74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8DA-CE35-4E69-8866-4250DCB6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8993-04E1-457A-80E4-97AB1B76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D479-45AA-4AA3-8042-229748B9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53CA-1E73-4A48-BF50-25DDE853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9CBA-15BB-4644-AE50-FF7F728E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7BA7-6D78-43B6-A3D2-EFF5E863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F3417-0418-431D-A304-CEA24C73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627F8-3E63-48B1-9B6E-F455ABF5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6E88C-4CE6-4702-A8A2-8A5BE615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61C75-19EB-4917-A13D-B0174CFD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CC70B-FD1A-4C92-8C40-485E9E3A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D38-41F3-4848-B29C-FED7B48A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47D04-F6A0-496D-AEE2-6A6C0EB0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1CA2E-4DCB-427B-B2D0-53CD52FE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75B7F-2D8E-404C-A0A0-80CBCABE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D026E-AB75-4FE7-9DEE-F7CB6A19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ED1D0-29E4-4892-A626-EE4AC567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6D88D-0FAF-4701-B211-5C037BEB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1D35E-2908-4742-ACB5-E1EBCF9C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BCF70-DA1B-4585-A8B5-1E75B8F5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B7649-59FC-4CC0-9E1E-89C3A1A1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F89AE-732E-40A9-9F17-A01923F2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702-5DC8-462B-A435-1B25D1F4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B9B8D-1B58-4230-80C1-D0BD17FD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B6E03-034C-40C1-957C-7E39E657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280AF-1A5F-42E5-A016-B0136DD0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DF741-4172-4E8D-AACE-9F64721D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87B45-1E38-41A9-80F8-1800F9D7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7E796-A08B-4BE4-BD11-A844559E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54ABC-D769-41AB-BBC9-FC3F68E0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A4059-E8E9-43ED-BB0F-919D02E5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AAAEE-765B-4EA3-A914-9C4FAD9E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2E9ED-4CAD-41F5-83E1-CE263272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1E3-99AC-4B98-943C-011B5D88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C333B-277F-4191-92A6-4B682BD7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00D6D-8EE2-4E32-94F3-3D24761E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47360-B552-412E-B6E3-DC0918C4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FA6BF-1628-4086-833F-D230B75A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E4772-CA89-4CFB-A929-BE7ADB41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6BFA6-6B2F-40E6-8422-5D68E615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DC701-5F3C-4D06-901C-4FB666FD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05784-2FC4-46DB-B859-76C30CBA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7FA35-6614-4954-8720-4622985B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8DAB3-9597-45F2-97B1-1E97CA07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F25-FA4E-4EB9-BF8C-86696479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DF7F6-B897-4934-96BD-A8D344C9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F6FEE-7F72-41D6-8ED4-1F93EC2A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A5C16-FA67-480E-9167-142CEAAE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84623-0FE2-4216-BB6E-7AC8104C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010A9-ECEC-4484-9BAD-98CA3F1B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83BFB-2BD2-4C2A-BFF9-8DFB28B2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6F56B-63F0-4301-AD13-F5BCE11A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A8CDD-E4A9-424A-9664-D59C98BD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C0336-3B00-499A-BCC2-8D0E190D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4331E-3215-444A-BB2B-58929EBD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7DA0-1949-4300-B5FB-5D8179FB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54040-2244-4FA1-9020-FE10C94B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B98A2-F87B-4E98-93CC-D18C3C35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A307F-5ED2-441A-9C8E-B507D13A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5D22D-60EA-4528-A8F1-E796F343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8CC29-6B57-4DCF-ABE2-4EDE7BDB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52249-EACB-40C1-A88F-8A944EC5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34798-269D-4ED6-9C26-F358FFDD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D9B74-AFC4-47CB-95E1-B6A42C10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FF260-E67C-4C65-AE35-CDA67A21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68C00-CA1C-4230-947A-86EFCC85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7C0-91F1-4F5C-B284-D9B132D7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F5843-2B8E-4274-8D5F-772D259D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599FC-B84C-42B2-AC6E-9065713E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30D70-CC59-4762-A600-5606F8EE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E0091-000E-41C6-A9E2-B9487A93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4CFB6-F30A-4B2F-8E4E-E279A841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87C9-9D0C-4964-8380-65FED05A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DEB9-E3F7-4839-978D-6ADA10E16AD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F15D-467F-4F59-9ED3-FD70AE161ADD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34B4-7C91-4A97-8EEF-33A80236862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2933-CAD9-4903-A756-BA45528FED1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23F4-AB17-46F4-97F8-7BB20407753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8B9B-116D-453E-AB54-7AF7FF159141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9DA7-BCB3-4393-B250-17453EE6676F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3" descr=""/>
          <p:cNvPicPr/>
          <p:nvPr/>
        </p:nvPicPr>
        <p:blipFill>
          <a:blip r:embed="rId1"/>
          <a:stretch/>
        </p:blipFill>
        <p:spPr>
          <a:xfrm>
            <a:off x="212760" y="262080"/>
            <a:ext cx="8547120" cy="1407960"/>
          </a:xfrm>
          <a:prstGeom prst="rect">
            <a:avLst/>
          </a:prstGeom>
          <a:ln w="0">
            <a:noFill/>
          </a:ln>
        </p:spPr>
      </p:pic>
      <p:pic>
        <p:nvPicPr>
          <p:cNvPr id="309" name="Content Placeholder 6" descr="miro-sample.jpg"/>
          <p:cNvPicPr/>
          <p:nvPr/>
        </p:nvPicPr>
        <p:blipFill>
          <a:blip r:embed="rId2"/>
          <a:stretch/>
        </p:blipFill>
        <p:spPr>
          <a:xfrm>
            <a:off x="1504800" y="1722600"/>
            <a:ext cx="1943280" cy="231588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7" descr="mondrian.jpg"/>
          <p:cNvPicPr/>
          <p:nvPr/>
        </p:nvPicPr>
        <p:blipFill>
          <a:blip r:embed="rId3"/>
          <a:stretch/>
        </p:blipFill>
        <p:spPr>
          <a:xfrm>
            <a:off x="5122800" y="1722600"/>
            <a:ext cx="3089160" cy="2315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pollock-sample.jpg"/>
          <p:cNvPicPr/>
          <p:nvPr/>
        </p:nvPicPr>
        <p:blipFill>
          <a:blip r:embed="rId4"/>
          <a:stretch/>
        </p:blipFill>
        <p:spPr>
          <a:xfrm>
            <a:off x="1143000" y="4419720"/>
            <a:ext cx="3160800" cy="2133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warhol-me2.jpg"/>
          <p:cNvPicPr/>
          <p:nvPr/>
        </p:nvPicPr>
        <p:blipFill>
          <a:blip r:embed="rId5"/>
          <a:stretch/>
        </p:blipFill>
        <p:spPr>
          <a:xfrm>
            <a:off x="5867280" y="4267080"/>
            <a:ext cx="198756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s is the last slide and should include a list of the URLs you visited for biographic informatio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io information about Joan Mir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3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Placeholder 6" descr="miro-sample.jpg"/>
          <p:cNvPicPr/>
          <p:nvPr/>
        </p:nvPicPr>
        <p:blipFill>
          <a:blip r:embed="rId2"/>
          <a:stretch/>
        </p:blipFill>
        <p:spPr>
          <a:xfrm>
            <a:off x="2286000" y="181080"/>
            <a:ext cx="4791240" cy="57099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Created in PhotoFiltre by Mrs. Sedgwick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Action Button: Home 7">
            <a:hlinkClick r:id="" action="ppaction://hlinkshowjump?jump=firs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io information about Piet Mondria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3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Created in PhotoFiltre by Mrs. Sedgwick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Placeholder 7" descr="mondrian.jpg"/>
          <p:cNvPicPr/>
          <p:nvPr/>
        </p:nvPicPr>
        <p:blipFill>
          <a:blip r:embed="rId2"/>
          <a:srcRect l="0" t="130" r="0" b="130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  <p:sp>
        <p:nvSpPr>
          <p:cNvPr id="324" name="Action Button: Home 8">
            <a:hlinkClick r:id="" action="ppaction://hlinkshowjump?jump=firs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io information about Jackson Polloc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3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Created by Mrs. Sedgwick at jacksonpollock.org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9" name="Picture Placeholder 6" descr="pollock-sample.jpg"/>
          <p:cNvPicPr/>
          <p:nvPr/>
        </p:nvPicPr>
        <p:blipFill>
          <a:blip r:embed="rId2"/>
          <a:srcRect l="4883" t="0" r="4883" b="0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  <p:sp>
        <p:nvSpPr>
          <p:cNvPr id="330" name="Action Button: Home 8">
            <a:hlinkClick r:id="" action="ppaction://hlinkshowjump?jump=firs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io information about Andy Warho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3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Created in PhotoFiltre by Mrs. Sedgwick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Picture Placeholder 7" descr="warhol-me2.jpg"/>
          <p:cNvPicPr/>
          <p:nvPr/>
        </p:nvPicPr>
        <p:blipFill>
          <a:blip r:embed="rId2"/>
          <a:stretch/>
        </p:blipFill>
        <p:spPr>
          <a:xfrm>
            <a:off x="2362320" y="181080"/>
            <a:ext cx="4786200" cy="5686200"/>
          </a:xfrm>
          <a:prstGeom prst="rect">
            <a:avLst/>
          </a:prstGeom>
          <a:ln w="0">
            <a:noFill/>
          </a:ln>
        </p:spPr>
      </p:pic>
      <p:sp>
        <p:nvSpPr>
          <p:cNvPr id="336" name="Action Button: Home 8">
            <a:hlinkClick r:id="" action="ppaction://hlinkshowjump?jump=firs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2:49:07Z</dcterms:created>
  <dc:creator>Sedgwick</dc:creator>
  <dc:description/>
  <dc:language>en-US</dc:language>
  <cp:lastModifiedBy>Sedgwick</cp:lastModifiedBy>
  <dcterms:modified xsi:type="dcterms:W3CDTF">2008-03-11T03:22:10Z</dcterms:modified>
  <cp:revision>4</cp:revision>
  <dc:subject/>
  <dc:title>My Gallery of Fine Computer Art</dc:title>
</cp:coreProperties>
</file>